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3.jpeg" ContentType="image/jpeg"/>
  <Override PartName="/ppt/media/image17.wmf" ContentType="image/x-wmf"/>
  <Override PartName="/ppt/media/image16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BE5E-777D-4F3D-8945-9F66623FE02F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Ernest Rutherford (1908) - Nucl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rnest Rutherford (1908) - Nucl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nest Rutherford (190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ed that the atom is mostly empty space with a dense positively charged nucleus surrounded by negative electrons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therford received the Nobel Prize in chemistry in 1908 for his contributions into the structure of the atom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nest Rutherford (19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at the atom is mostly empty space with a dense positively charged nucleus surrounded by negative electron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received the Nobel Prize in chemistry in 1908 for his contributions into the structure of the atom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sed that electrons traveled in circular orbits and that only certain orbits were allowed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received the Nobel Prize in physics in 1922 for his the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that electrons traveled in circular orbits and that only certain orbits were allowed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received the Nobel Prize in physics in 1922 for his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Cloud Model (1920'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tom consists of a dense nucleus composed of protons and neutrons surrounded by electrons that exist in different clouds at the various energy levels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win Schrodinger and Werner Heisenburg developed probability functions to determine the regions or clouds in which electrons would most likely be fou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Cloud Model (1920'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consists of a dense nucleus composed of protons and neutrons surrounded by electrons that exist in different clouds at the various energy level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win Schrodinger and Werner Heisenburg developed probability functions to determine the regions or clouds in which electrons would most likely be f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bination of all model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bination of all model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ing Bohr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ies the e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l to the number of protons in the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atoms are electrically neutral, # of protons = # of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 of protons + # of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 neutrons = atomic mass (rounded off) – atomic #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and neutrons account for most of the mass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ing 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ies the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 to the number of protons in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toms are electrically neutral, # of protons = #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numb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protons + # of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neutrons = atomic mass (rounded off) – atomic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and neutrons account for most of the mass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nergy level represents a specific value of energy of an electron and corresponds to a general location around the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occupied energy levels in any atom is normally the same as the period number in which an atom app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ergy level represents a specific value of energy of an electron and corresponds to a general location around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occupied energy levels in any atom is normally the same as the period number in which an atom app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 first 3 energy levels, the maximum number of electrons that can be present are 2, 8 and 8 in order of increasing energy (increasing distance from the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ower energy level is filled with electrons to its maximum level before the next level is star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ns in the highest (outermost) occupied energy level are called valence electrons. Number of valence electrons is the same as the group number for group A elements (1,2,13-18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first 3 energy levels, the maximum number of electrons that can be present are 2, 8 and 8 in order of increasing energy (increasing distance from the nucle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wer energy level is filled with electrons to its maximum level before the next level is star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s in the highest (outermost) occupied energy level are called valence electrons. Number of valence electrons is the same as the group number for group A elements (1,2,13-18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circle for the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in the number of protons and neutrons inside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the number of electrons and place them in energy levels starting closest to the nucleus and filling them in the order of 2, 8, 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circle for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in the number of protons and neutrons inside the 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number of electrons and place them in energy levels starting closest to the nucleus and filling them in the order of 2, 8, 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low chemical re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 noble gases, all of which have 8 valence electrons (except He, which has 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bility is a function of having a full complement of valence electr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that do not have full electrons energy levels are unstable and must gain, lose or share electrons to become 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atoms can become more stable by reacting and changing the number of their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low chemical re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 noble gases, all of which have 8 valence electrons (except He, which has 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ility is a function of having a full complement of valence electr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that do not have full electrons energy levels are unstable and must gain, lose or share electrons to become s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toms can become more stable by reacting and changing the number of their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can follow one of 2 ru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Octet rul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ttempt to obtain 8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 most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Duet ru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ttempt to obtain 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ence elec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 H, Li and 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can achieve a stable octet or duet by forming 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can follow one of 2 ru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Octet ru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attempt to obtain 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most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Duet r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attempt to obtain 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H, Li an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can achieve a stable octet or duet by forming 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tom or groups of atoms that have a positive or negative charge, due to the loss or gain of one or more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 atoms form simple ions (monatomic ions); groups of atoms form complex ions (polyatomic i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or groups of atoms that have a positive or negative charge, due to the loss or gain of one or mor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atoms form simple ions (monatomic ions); groups of atoms form complex ions (polyatomic 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metal and chlorine gas react to produce NaCl, a very stable and unreactive substance, compared to Na or C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dium atom loses 1 electron to the chlorine atom so both of their outer levels are filled. In doing so, the atoms form ions of opposite char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metal and chlorine gas react to produce NaCl, a very stable and unreactive substance, compared to Na or C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 atom loses 1 electron to the chlorine atom so both of their outer levels are filled. In doing so, the atoms form ions of opposit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sic building block of all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est particle of an element that retains the properties of that e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ly neutral: the number of positive charges (protons) equals the number of negative charges (electr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ed of 3 subatomic particles: protons (p+), electrons (e-) and neutrons (n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building block of all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particle of an element that retains the properties of that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ly neutral: the number of positive charges (protons) equals the number of negative charges (electr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ed of 3 subatomic particles: protons (p+), electrons (e-) and neutrons (n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onic bonds form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 with atoms of two different elements that do not have 8 electrons in their outer most energy leve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onic bonds form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with atoms of two different elements that do not have 8 electrons in their outer most 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dium atom (Na ) donates 1 electron becoming a positively sodium ion ( Na+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lorine atom (Cl) accepts the donated electron becoming a negatively charged chloride ion (Cl-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 atom (Na ) donates 1 electron becoming a positively sodium ion ( Na+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lorine atom (Cl) accepts the donated electron becoming a negatively charged chloride ion (Cl-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s of the Atom -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ocritus a fifth century B.C. Greek philosopher proposed that all matter was composed of indivisible particles called atoms (“atoma” - Greek for indivisible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s of the Atom -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itus a fifth century B.C. Greek philosopher proposed that all matter was composed of indivisible particles called atoms (“atoma” - Greek for indivisible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John Dalton (1803)- Billiard 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John Dalton (1803)- Billiard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Dalton (180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iard Ball Model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ewed the atom as a small solid sphere.  He really got the "ball" rolling for modern chemistry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element was composed of the same kind of ato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unds are composed of atoms in specific rati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reactions are rearrangements of atoms (mass is conserved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Dalton (180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liard Ball Model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ed the atom as a small solid sphere.  He really got the "ball" rolling for modern chemistry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ment was composed of the same kind of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s are composed of atoms in specific rati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are rearrangements of atoms (mass is conserved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J. J. Thomson (1897) – Plum Pud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J. J. Thomson (1897) – Plum P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. J. Thomson (189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m Pudding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sed that the atom was a sphere of positive electricity with negative particles imbedded throughout after discovering the elec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scovery for which he was awarded the Nobel Prize in physics in 1906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 J. Thomson (189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m Pudding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that the atom was a sphere of positive electricity with negative particles imbedded throughout after discovering the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scovery for which he was awarded the Nobel Prize in physics in 190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761E-60D9-45FA-8672-D4ACA94CB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717E-B6A2-4EBB-B762-B462EE3A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69FB-98CA-4BBE-AD5F-0C89F09E1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0BE0-9DEE-49F3-B1D4-C4C4043CD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F649-70A6-4AA3-836D-D9854D85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2F3A-BD1D-4017-9C51-04EBED63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7B91-09E9-42E7-8AE2-9BA97BDC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7FD0-F19C-411C-9DAC-5C06BA74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923E-3555-4A37-9C28-36218E91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6B27-1698-4EEF-9599-00E3B16B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E5E5-08AA-4E56-A0D5-4FF29EDA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B4C7-265A-4B03-B2B3-EA8CCDD6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4999-5AC7-4AFC-91AE-475908CC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A09A-94D6-48A4-A6A4-A0D73928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1BD5-CE71-41D0-B501-344C4176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FD67-46EF-4CA6-A62B-B68A7A167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F228-58C7-427E-AF66-7F02B24CF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DA96-990C-47B7-A9E2-6B0BF95E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A40A-6A3C-453C-8D76-D81E4AE2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3008-9058-4095-A4EE-BDC0498A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EBBA-4B2C-4777-946B-D31CA499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1238-4F62-4979-A878-E63AE2E4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A4F0-64A0-4759-981F-A9DEEA4D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0CB5-6C88-49CF-B95A-7000846F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0A01-C0AC-41AF-944C-60CCE4EF00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CDBB-705E-495C-BFFB-276CED3DD9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hup.edu/~dsimanek/scenario/labman1/atom.gif&amp;imgrefurl=http://www.lhup.edu/~dsimanek/scenario/analogy.htm&amp;usg=__FEC_VogIXbghGkoxomZcOWXdC_0=&amp;h=240&amp;w=245&amp;sz=12&amp;hl=en&amp;start=15&amp;um=1&amp;tbnid=-U8eVTWiIsbxfM:&amp;tbnh=108&amp;tbnw=110&amp;prev=/images%3Fq%3Dmodels%2Bof%2Bthe%2Batom%26um%3D1%26hl%3Den%26rlz%3D1T4GPEA_enCA295CA295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he ATOM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at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3048120"/>
            <a:ext cx="2114640" cy="207648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Ernest Rutherford (1908) - Nuclear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8" descr="rutherford_atom"/>
          <p:cNvPicPr/>
          <p:nvPr/>
        </p:nvPicPr>
        <p:blipFill>
          <a:blip r:embed="rId1"/>
          <a:stretch/>
        </p:blipFill>
        <p:spPr>
          <a:xfrm>
            <a:off x="1295280" y="2590920"/>
            <a:ext cx="2432160" cy="2743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ernest_rutherford2"/>
          <p:cNvPicPr/>
          <p:nvPr/>
        </p:nvPicPr>
        <p:blipFill>
          <a:blip r:embed="rId2"/>
          <a:stretch/>
        </p:blipFill>
        <p:spPr>
          <a:xfrm>
            <a:off x="5410080" y="2438280"/>
            <a:ext cx="2076480" cy="259092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rnest Rutherford (1908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overed that the atom is mostly empty space with a dense positively charged nucleus surrounded by negative electrons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therford received the Nobel Prize in chemistry in 1908 for his contributions into the structure of the atom.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ils Bohr (191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nucleus3gif"/>
          <p:cNvPicPr/>
          <p:nvPr/>
        </p:nvPicPr>
        <p:blipFill>
          <a:blip r:embed="rId1"/>
          <a:stretch/>
        </p:blipFill>
        <p:spPr>
          <a:xfrm>
            <a:off x="1676520" y="2286000"/>
            <a:ext cx="5095800" cy="334332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ils Bohr (191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that electrons traveled in circular orbits and that only certain orbits were allowed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received the Nobel Prize in physics in 1922 for his theo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Quantum Mechanics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atom2.jpg"/>
          <p:cNvPicPr/>
          <p:nvPr/>
        </p:nvPicPr>
        <p:blipFill>
          <a:blip r:embed="rId1"/>
          <a:stretch/>
        </p:blipFill>
        <p:spPr>
          <a:xfrm>
            <a:off x="2362320" y="2133720"/>
            <a:ext cx="3733560" cy="373356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Quantum Mechanics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Electron Cloud Model (1920'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an atom consists of a dense nucleus composed of protons and neutrons surrounded by electrons that exist in different clouds at the various energy levels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Erwin Schrodinger and Werner Heisenburg developed probability functions to determine the regions or clouds in which electrons would most likely be foun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Content Placeholder 5" descr="T014145A.gif"/>
          <p:cNvPicPr/>
          <p:nvPr/>
        </p:nvPicPr>
        <p:blipFill>
          <a:blip r:embed="rId1"/>
          <a:stretch/>
        </p:blipFill>
        <p:spPr>
          <a:xfrm>
            <a:off x="822240" y="1816200"/>
            <a:ext cx="7493040" cy="428616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A combination of all models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4" name="Picture 2" descr="http://sharpiron.files.wordpress.com/2008/06/atomic-models3.jpg"/>
          <p:cNvPicPr/>
          <p:nvPr/>
        </p:nvPicPr>
        <p:blipFill>
          <a:blip r:embed="rId1"/>
          <a:stretch/>
        </p:blipFill>
        <p:spPr>
          <a:xfrm>
            <a:off x="1143000" y="1523880"/>
            <a:ext cx="6721560" cy="512784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Drawing Bohr Diagra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ic numbe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s the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 to the number of protons in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toms are electrically neutral, # of protons = #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nu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of protons + # of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neutrons = atomic mass (rounded off) – atomic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and neutrons account for most of the mass of the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Bohr Diagrams (continued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nergy level represents a specific value of energy of an electron and corresponds to a general location around the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occupied energy levels in any atom is normally the same as the period number in which an atom app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Content Placeholder 3" descr="laser1.jpg"/>
          <p:cNvPicPr/>
          <p:nvPr/>
        </p:nvPicPr>
        <p:blipFill>
          <a:blip r:embed="rId1"/>
          <a:stretch/>
        </p:blipFill>
        <p:spPr>
          <a:xfrm>
            <a:off x="2209680" y="1371600"/>
            <a:ext cx="4343400" cy="420696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first 3 energy levels, the maximum number of electrons that can be present are 2, 8 and 8 in order of increasing energy (increasing distance from the nucle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wer energy level is filled with electrons to its maximum level before the next level is star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ons in the highest (outermost) occupied energy level are called valence electrons. Number of valence electrons is the same as the group number for group A elements (1,2,13-1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Bohr Diagrams (continued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Draw a circle for the nucle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Put in the number of protons and neutrons inside the circ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Determine the number of electrons and place them in energy levels starting closest to the nucleus and filling them in the order of 2, 8, 8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1752480" y="1514520"/>
            <a:ext cx="5083200" cy="343836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Stable Atom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low chemical re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lude noble gases, all of which have 8 valence electrons (except He, which has 2)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tability is a function of having a full complement of valence electr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oms that do not have full electrons energy levels are unstable and must gain, lose or share electrons to become st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atoms can become more stable by reacting and changing the number of their electr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Stable Atom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can follow one of 2 rul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) Octet rul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attempt to obtain 8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es most at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) Duet ru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attempt to obtain 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es H, Li and B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can achieve a stable octet or duet by forming 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Ion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atom or groups of atoms that have a positive or negative charge, due to the loss or gain of one or more electr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gle atoms form simple ions (monatomic ions); groups of atoms form complex ions (polyatomic 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dium metal and chlorine gas react to produce NaCl, a very stable and unreactive substance, compared to Na or C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odium atom loses 1 electron to the chlorine atom so both of their outer levels are filled. In doing so, the atoms form ions of opposite char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2362320" y="2403360"/>
            <a:ext cx="3843360" cy="264492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6" name="Picture 4" descr="b11_5"/>
          <p:cNvPicPr/>
          <p:nvPr/>
        </p:nvPicPr>
        <p:blipFill>
          <a:blip r:embed="rId1"/>
          <a:stretch/>
        </p:blipFill>
        <p:spPr>
          <a:xfrm>
            <a:off x="1295280" y="1998720"/>
            <a:ext cx="6477120" cy="380664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lor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910040" cy="359280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to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asic building block of all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mallest particle of an element that retains the properties of that el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ctrically neutral: the number of positive charges (protons) equals the number of negative charges (electr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osed of 3 subatomic particles: protons (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, electrons (e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and neutrons (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How ionic bonds form: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egin with atoms of two different elements that do not have 8 electrons in their outer most energy level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 + chlor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5" name="Picture 4" descr="Sodium_atom_and_Chlorine_atom"/>
          <p:cNvPicPr/>
          <p:nvPr/>
        </p:nvPicPr>
        <p:blipFill>
          <a:blip r:embed="rId1"/>
          <a:stretch/>
        </p:blipFill>
        <p:spPr>
          <a:xfrm>
            <a:off x="1447920" y="2232000"/>
            <a:ext cx="5295960" cy="286848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sodium atom (Na ) donates 1 electron becoming a positively sodium ion ( Na+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chlorine atom (Cl) accepts the donated electron becoming a negatively charged chloride ion (Cl-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 + chlor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0" name="Picture 4" descr="sodium_ion_and_chlorine_ion"/>
          <p:cNvPicPr/>
          <p:nvPr/>
        </p:nvPicPr>
        <p:blipFill>
          <a:blip r:embed="rId1"/>
          <a:stretch/>
        </p:blipFill>
        <p:spPr>
          <a:xfrm>
            <a:off x="1924200" y="2419200"/>
            <a:ext cx="5295600" cy="300996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s of the Atom - Histo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mocritus a fifth century B.C. Greek philosopher proposed that all matter was composed of indivisible particles called atoms (“atoma” - Greek for indivisible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ttp://www.lsua.info/chem1001/vocabulary/Module3/AtomHistory.jpg"/>
          <p:cNvPicPr/>
          <p:nvPr/>
        </p:nvPicPr>
        <p:blipFill>
          <a:blip r:embed="rId1"/>
          <a:stretch/>
        </p:blipFill>
        <p:spPr>
          <a:xfrm>
            <a:off x="1549440" y="1028880"/>
            <a:ext cx="6146640" cy="46098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John Dalton (1803)- Billiard Ball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10312949"/>
          <p:cNvPicPr/>
          <p:nvPr/>
        </p:nvPicPr>
        <p:blipFill>
          <a:blip r:embed="rId1"/>
          <a:stretch/>
        </p:blipFill>
        <p:spPr>
          <a:xfrm>
            <a:off x="380880" y="2057400"/>
            <a:ext cx="4724640" cy="3532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s4"/>
          <p:cNvPicPr/>
          <p:nvPr/>
        </p:nvPicPr>
        <p:blipFill>
          <a:blip r:embed="rId2"/>
          <a:stretch/>
        </p:blipFill>
        <p:spPr>
          <a:xfrm>
            <a:off x="5334120" y="236232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ohn Dalton (1803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lliard Ball Model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ewed the atom as a small solid sphere.  He really got the "ball" rolling for modern chemistry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element was composed of the same kind of atom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unds are composed of atoms in specific ratio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mical reactions are rearrangements of atoms (mass is conserved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J. J. Thomson (1897) – Plum Pudding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Thomson_model_E"/>
          <p:cNvPicPr/>
          <p:nvPr/>
        </p:nvPicPr>
        <p:blipFill>
          <a:blip r:embed="rId1"/>
          <a:stretch/>
        </p:blipFill>
        <p:spPr>
          <a:xfrm>
            <a:off x="1181160" y="2666880"/>
            <a:ext cx="2598840" cy="2743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rutherford3"/>
          <p:cNvPicPr/>
          <p:nvPr/>
        </p:nvPicPr>
        <p:blipFill>
          <a:blip r:embed="rId2"/>
          <a:stretch/>
        </p:blipFill>
        <p:spPr>
          <a:xfrm>
            <a:off x="5715000" y="2743200"/>
            <a:ext cx="1765440" cy="27432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. J. Thomson (1897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um Pudding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that the atom was a sphere of positive electricity with negative particles imbedded throughout after discovering the electr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discovery for which he was awarded the Nobel Prize in physics in 1906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9:07:21Z</dcterms:created>
  <dc:creator>gwinsor</dc:creator>
  <dc:description/>
  <dc:language>en-US</dc:language>
  <cp:lastModifiedBy>LEGION</cp:lastModifiedBy>
  <dcterms:modified xsi:type="dcterms:W3CDTF">2017-01-26T09:19:26Z</dcterms:modified>
  <cp:revision>15</cp:revision>
  <dc:subject/>
  <dc:title>The ATOM</dc:title>
</cp:coreProperties>
</file>